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808-88C7-4961-A8E9-56F39D3E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80F-AD97-45BA-B199-0F800095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4F6-F9F4-4FE1-805F-39D08F03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1C1-78D3-4A74-912D-EEBB2B2C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ABC-2F3C-46C6-BB24-51F6631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B9C-1268-497A-B818-2DA4812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893-8F07-407F-96FF-C3E8A6A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2B7-B78A-4F81-8733-0CF9E2C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7A0-D188-4AB5-9496-028C616D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50B-43CD-4DD7-A11E-F6A4141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655-1FE3-4A05-85F0-718A7DF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BAB-BE38-4013-9251-5F348DEA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4DB2-9D03-47A2-B5A8-59E347DDB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en.wikipedia.org/wiki/Image:Murray_darling_murrumbidgee_map.gif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564000" cy="3789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92360" y="476280"/>
            <a:ext cx="2160720" cy="1177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he Murray Riv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3789360"/>
            <a:ext cx="345600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day, no water flows into the sea from the Murray river as it’s water levels are decre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to habitats, invasions of foreign plants and animals. (e.g., carp invasion causes problems with quality of water)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inity probl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96000" y="4724280"/>
            <a:ext cx="22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red 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crease the wate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Get the alien fish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66"/>
                </a:solidFill>
                <a:latin typeface="Arial"/>
              </a:rPr>
              <a:t>No salinity (sa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p the alien fish sucking the rocks and pebbles and leav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Proposed action and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Don’t put rubbish in the Mu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less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Fishing out the f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ll the farmers to not put mor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3:21:48Z</dcterms:created>
  <dc:creator>Primary School</dc:creator>
  <dc:description/>
  <dc:language>en-US</dc:language>
  <cp:lastModifiedBy>Primary School</cp:lastModifiedBy>
  <dcterms:modified xsi:type="dcterms:W3CDTF">2009-05-13T02:22:19Z</dcterms:modified>
  <cp:revision>7</cp:revision>
  <dc:subject/>
  <dc:title>Murray River</dc:title>
</cp:coreProperties>
</file>